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CE7-036D-46EE-A676-F77ECAAE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9D4-F429-4C03-A7AC-9C55485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ADC-B812-452D-9644-46B95E30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1F7-236D-4610-B46A-3996D0A4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136-E7FE-40E9-8671-D65E3774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303-04D4-45C5-A80D-A38B725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173-099E-44C7-9B1F-CA60195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B130-F56C-446B-88A3-D8ED11C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2D4E-A007-47FE-B835-5CA0892E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C39-481B-414B-8BF2-7EB3220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A410-7FD5-48D2-849E-B4E0FFE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CDE-2FB4-478D-A32B-448BA0E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E652-51C0-4BAC-8850-A282190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9F7-8BE4-4C2C-8B8B-BE90B06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286-7156-49ED-A58F-D5AC455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DED-67E8-4D1B-8124-34969477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0CE3-48CB-4A0B-8A2A-779BFFB7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1BD-9971-4F91-889D-540F505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053-2A62-4EC8-9EE0-B70BD71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A45-56F4-49F9-8B3E-6FA3559E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F08-77ED-406F-96B8-99D2EE5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884-D2D6-4767-A503-A368925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FD5-30BA-4841-B04A-217004A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662-9766-41E8-8661-2BF3558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349-42BB-45B1-90E8-6B42386289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DA79-12A2-4243-967C-AE646F9DE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rigonometric Ratios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 Right Triangl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6172200" y="3809880"/>
          <a:ext cx="24382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809880"/>
                    <a:ext cx="24382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301076"/>
          <p:cNvPicPr/>
          <p:nvPr/>
        </p:nvPicPr>
        <p:blipFill>
          <a:blip r:embed="rId3"/>
          <a:stretch/>
        </p:blipFill>
        <p:spPr>
          <a:xfrm>
            <a:off x="1219320" y="3809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480" y="380880"/>
            <a:ext cx="807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alue of each of the trigonometric functions of the angl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990720" y="2057400"/>
            <a:ext cx="0" cy="320040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990720" y="5257800"/>
            <a:ext cx="2438280" cy="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990720" y="2057400"/>
            <a:ext cx="2438280" cy="320040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990720" y="5029200"/>
            <a:ext cx="228600" cy="0"/>
          </a:xfrm>
          <a:prstGeom prst="line">
            <a:avLst/>
          </a:prstGeom>
          <a:ln w="1260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1219320" y="5029200"/>
            <a:ext cx="0" cy="228600"/>
          </a:xfrm>
          <a:prstGeom prst="line">
            <a:avLst/>
          </a:prstGeom>
          <a:ln w="1260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219320" y="5334120"/>
            <a:ext cx="198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80880" y="3276720"/>
            <a:ext cx="838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2209680" y="3124080"/>
            <a:ext cx="114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62520" y="1905120"/>
            <a:ext cx="4800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Hypotenuse =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962520" y="2666880"/>
            <a:ext cx="4495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Opposite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1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368280" cy="419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2895840" cy="660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3124080" cy="741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4"/>
          <a:stretch/>
        </p:blipFill>
        <p:spPr>
          <a:xfrm>
            <a:off x="4419720" y="4800600"/>
            <a:ext cx="4419360" cy="74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5"/>
          <a:stretch/>
        </p:blipFill>
        <p:spPr>
          <a:xfrm>
            <a:off x="4572000" y="5715000"/>
            <a:ext cx="1892160" cy="660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609480" y="304920"/>
                <a:ext cx="38401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jacent=5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posite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potenuse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0" y="2362320"/>
            <a:ext cx="4191120" cy="126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0" y="3962520"/>
            <a:ext cx="3962520" cy="11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0" y="5334120"/>
            <a:ext cx="4038480" cy="124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4267080" cy="966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5"/>
          <a:stretch/>
        </p:blipFill>
        <p:spPr>
          <a:xfrm>
            <a:off x="4876920" y="2514600"/>
            <a:ext cx="4267080" cy="115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"/>
          <p:cNvPicPr/>
          <p:nvPr/>
        </p:nvPicPr>
        <p:blipFill>
          <a:blip r:embed="rId6"/>
          <a:stretch/>
        </p:blipFill>
        <p:spPr>
          <a:xfrm>
            <a:off x="5079960" y="3962520"/>
            <a:ext cx="40640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65626" t="55290" r="6249" b="16532"/>
          <a:stretch/>
        </p:blipFill>
        <p:spPr>
          <a:xfrm>
            <a:off x="1981080" y="1828800"/>
            <a:ext cx="61722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447920" y="205740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use your calculator to find trigonometric ratios, it MUST be in degree mod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 Before taking ANY test that might have trig on it, change the mode to Degree to be safe (EOC, ACT, Semester Exam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838080" y="838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calculator to find each value.  Round to the nearest ten thousan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066680" y="2209680"/>
                <a:ext cx="276876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lving a Problem with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angent Rat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 flipH="1">
            <a:off x="608760" y="2133720"/>
            <a:ext cx="1724040" cy="2384280"/>
          </a:xfrm>
          <a:prstGeom prst="rtTriangl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00000" y="4092480"/>
            <a:ext cx="8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0574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ject 7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946080" cy="2514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1142640" y="462132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667960" y="30481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2819520" y="2133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2819520" y="3581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339800" y="1981080"/>
            <a:ext cx="426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e angle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adjacent to 60º.  We wan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opposite side. 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ent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3"/>
              <p:cNvSpPr txBox="1"/>
              <p:nvPr/>
            </p:nvSpPr>
            <p:spPr>
              <a:xfrm>
                <a:off x="5506920" y="3951360"/>
                <a:ext cx="224316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14"/>
          <p:cNvGrpSpPr/>
          <p:nvPr/>
        </p:nvGrpSpPr>
        <p:grpSpPr>
          <a:xfrm>
            <a:off x="3278160" y="3505320"/>
            <a:ext cx="1004400" cy="1327680"/>
            <a:chOff x="3278160" y="3505320"/>
            <a:chExt cx="1004400" cy="1327680"/>
          </a:xfrm>
        </p:grpSpPr>
        <p:sp>
          <p:nvSpPr>
            <p:cNvPr id="245" name="AutoShape 15"/>
            <p:cNvSpPr/>
            <p:nvPr/>
          </p:nvSpPr>
          <p:spPr>
            <a:xfrm flipH="1">
              <a:off x="3291480" y="3505320"/>
              <a:ext cx="533160" cy="990360"/>
            </a:xfrm>
            <a:prstGeom prst="rtTriangle">
              <a:avLst/>
            </a:prstGeom>
            <a:solidFill>
              <a:srgbClr val="ffff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3445560" y="4495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3278160" y="36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18"/>
                <p:cNvSpPr txBox="1"/>
                <p:nvPr/>
              </p:nvSpPr>
              <p:spPr>
                <a:xfrm>
                  <a:off x="3901680" y="3809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Text Box 19"/>
          <p:cNvSpPr/>
          <p:nvPr/>
        </p:nvSpPr>
        <p:spPr>
          <a:xfrm>
            <a:off x="7011360" y="4800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1218960"/>
            <a:ext cx="662940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rigonometric Ratios 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are based on the Concept of 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milar Triangles!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8620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Cj03709000000[1]"/>
          <p:cNvPicPr/>
          <p:nvPr/>
        </p:nvPicPr>
        <p:blipFill>
          <a:blip r:embed="rId2"/>
          <a:stretch/>
        </p:blipFill>
        <p:spPr>
          <a:xfrm>
            <a:off x="6705720" y="3886200"/>
            <a:ext cx="1836720" cy="15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MCED00281_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274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45º- 45º- 90º 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258880" y="2809800"/>
            <a:ext cx="2940480" cy="2907720"/>
            <a:chOff x="5258880" y="2809800"/>
            <a:chExt cx="2940480" cy="2907720"/>
          </a:xfrm>
        </p:grpSpPr>
        <p:sp>
          <p:nvSpPr>
            <p:cNvPr id="108" name="AutoShape 4"/>
            <p:cNvSpPr/>
            <p:nvPr/>
          </p:nvSpPr>
          <p:spPr>
            <a:xfrm flipH="1">
              <a:off x="5258520" y="2809800"/>
              <a:ext cx="2529000" cy="248436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640840" y="48006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7569360" y="5067360"/>
              <a:ext cx="218880" cy="22680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7790040" y="3713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6402600" y="5257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5867280" y="3505320"/>
                <a:ext cx="685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4" name="Group 10"/>
          <p:cNvGrpSpPr/>
          <p:nvPr/>
        </p:nvGrpSpPr>
        <p:grpSpPr>
          <a:xfrm>
            <a:off x="2743200" y="1752480"/>
            <a:ext cx="2163600" cy="2059920"/>
            <a:chOff x="2743200" y="1752480"/>
            <a:chExt cx="2163600" cy="2059920"/>
          </a:xfrm>
        </p:grpSpPr>
        <p:sp>
          <p:nvSpPr>
            <p:cNvPr id="115" name="AutoShape 11"/>
            <p:cNvSpPr/>
            <p:nvPr/>
          </p:nvSpPr>
          <p:spPr>
            <a:xfrm flipH="1">
              <a:off x="2743200" y="1752480"/>
              <a:ext cx="1752480" cy="16765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2957760" y="30132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4343400" y="3276720"/>
              <a:ext cx="152280" cy="15228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4497480" y="2362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3430800" y="3352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Object 16"/>
              <p:cNvSpPr txBox="1"/>
              <p:nvPr/>
            </p:nvSpPr>
            <p:spPr>
              <a:xfrm>
                <a:off x="3048120" y="2133720"/>
                <a:ext cx="533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1" name="Group 17"/>
          <p:cNvGrpSpPr/>
          <p:nvPr/>
        </p:nvGrpSpPr>
        <p:grpSpPr>
          <a:xfrm>
            <a:off x="1600200" y="4343400"/>
            <a:ext cx="1295280" cy="1221480"/>
            <a:chOff x="1600200" y="4343400"/>
            <a:chExt cx="1295280" cy="1221480"/>
          </a:xfrm>
        </p:grpSpPr>
        <p:sp>
          <p:nvSpPr>
            <p:cNvPr id="122" name="AutoShape 18"/>
            <p:cNvSpPr/>
            <p:nvPr/>
          </p:nvSpPr>
          <p:spPr>
            <a:xfrm flipH="1">
              <a:off x="1600200" y="4343400"/>
              <a:ext cx="1295280" cy="117288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1830600" y="51051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 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782800" y="5410080"/>
              <a:ext cx="112680" cy="106200"/>
            </a:xfrm>
            <a:prstGeom prst="rect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1967040" y="4460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" name="Object 22"/>
              <p:cNvSpPr txBox="1"/>
              <p:nvPr/>
            </p:nvSpPr>
            <p:spPr>
              <a:xfrm>
                <a:off x="2133720" y="5562720"/>
                <a:ext cx="341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2971800" y="4648320"/>
                <a:ext cx="341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30º- 60º- 90º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72880" y="48006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060360" y="4648320"/>
            <a:ext cx="817560" cy="1114920"/>
            <a:chOff x="3060360" y="4648320"/>
            <a:chExt cx="817560" cy="1114920"/>
          </a:xfrm>
        </p:grpSpPr>
        <p:sp>
          <p:nvSpPr>
            <p:cNvPr id="131" name="AutoShape 5"/>
            <p:cNvSpPr/>
            <p:nvPr/>
          </p:nvSpPr>
          <p:spPr>
            <a:xfrm flipH="1">
              <a:off x="3060000" y="4648320"/>
              <a:ext cx="765000" cy="107460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3125880" y="5425920"/>
              <a:ext cx="6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3430440" y="495288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3699000" y="5603760"/>
              <a:ext cx="126720" cy="119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9"/>
          <p:cNvSpPr/>
          <p:nvPr/>
        </p:nvSpPr>
        <p:spPr>
          <a:xfrm>
            <a:off x="3201840" y="571500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3809880" y="5029200"/>
                <a:ext cx="642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7238880" y="3276720"/>
                <a:ext cx="6098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38" name="Group 12"/>
          <p:cNvGrpSpPr/>
          <p:nvPr/>
        </p:nvGrpSpPr>
        <p:grpSpPr>
          <a:xfrm>
            <a:off x="5334120" y="2286000"/>
            <a:ext cx="1762920" cy="2383920"/>
            <a:chOff x="5334120" y="2286000"/>
            <a:chExt cx="1762920" cy="2383920"/>
          </a:xfrm>
        </p:grpSpPr>
        <p:sp>
          <p:nvSpPr>
            <p:cNvPr id="139" name="AutoShape 13"/>
            <p:cNvSpPr/>
            <p:nvPr/>
          </p:nvSpPr>
          <p:spPr>
            <a:xfrm flipH="1">
              <a:off x="5334120" y="2286000"/>
              <a:ext cx="1723680" cy="23839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5547600" y="4244040"/>
              <a:ext cx="84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6581160" y="271152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6819480" y="4414680"/>
              <a:ext cx="239760" cy="22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0976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7931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2211120" y="1981080"/>
            <a:ext cx="1112040" cy="1810800"/>
            <a:chOff x="2211120" y="1981080"/>
            <a:chExt cx="1112040" cy="1810800"/>
          </a:xfrm>
        </p:grpSpPr>
        <p:sp>
          <p:nvSpPr>
            <p:cNvPr id="146" name="AutoShape 20"/>
            <p:cNvSpPr/>
            <p:nvPr/>
          </p:nvSpPr>
          <p:spPr>
            <a:xfrm flipH="1">
              <a:off x="2226600" y="1981080"/>
              <a:ext cx="993600" cy="143064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2211120" y="2341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309760" y="3013920"/>
              <a:ext cx="5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2807280" y="2298600"/>
              <a:ext cx="5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4"/>
            <p:cNvSpPr/>
            <p:nvPr/>
          </p:nvSpPr>
          <p:spPr>
            <a:xfrm>
              <a:off x="3054960" y="3252600"/>
              <a:ext cx="165240" cy="159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2642040" y="33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3276720" y="2514600"/>
                <a:ext cx="517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 30º- 60º- 90º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iangles are Similar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572000" y="2285640"/>
            <a:ext cx="2801520" cy="1380960"/>
            <a:chOff x="4572000" y="2285640"/>
            <a:chExt cx="2801520" cy="1380960"/>
          </a:xfrm>
        </p:grpSpPr>
        <p:sp>
          <p:nvSpPr>
            <p:cNvPr id="155" name="AutoShape 4"/>
            <p:cNvSpPr/>
            <p:nvPr/>
          </p:nvSpPr>
          <p:spPr>
            <a:xfrm flipH="1" flipV="1" rot="5400000">
              <a:off x="5282280" y="1574640"/>
              <a:ext cx="1380600" cy="28015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 flipV="1" rot="5400000">
              <a:off x="7102080" y="3395160"/>
              <a:ext cx="231480" cy="310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6"/>
          <p:cNvSpPr/>
          <p:nvPr/>
        </p:nvSpPr>
        <p:spPr>
          <a:xfrm>
            <a:off x="571644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0" y="25146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258520" y="32767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356600" y="27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5638680" y="3809880"/>
                <a:ext cx="874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2" name="Group 11"/>
          <p:cNvGrpSpPr/>
          <p:nvPr/>
        </p:nvGrpSpPr>
        <p:grpSpPr>
          <a:xfrm>
            <a:off x="1600200" y="2514600"/>
            <a:ext cx="1430280" cy="993600"/>
            <a:chOff x="1600200" y="2514600"/>
            <a:chExt cx="1430280" cy="993600"/>
          </a:xfrm>
        </p:grpSpPr>
        <p:sp>
          <p:nvSpPr>
            <p:cNvPr id="163" name="AutoShape 12"/>
            <p:cNvSpPr/>
            <p:nvPr/>
          </p:nvSpPr>
          <p:spPr>
            <a:xfrm flipH="1" flipV="1" rot="5400000">
              <a:off x="1818000" y="2296080"/>
              <a:ext cx="993600" cy="143028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 flipV="1" rot="5400000">
              <a:off x="2867760" y="3345120"/>
              <a:ext cx="166680" cy="1587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4"/>
          <p:cNvSpPr/>
          <p:nvPr/>
        </p:nvSpPr>
        <p:spPr>
          <a:xfrm>
            <a:off x="2108520" y="26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563920" y="26766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954800" y="313380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022920" y="282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2106720" y="3591000"/>
                <a:ext cx="517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0" name="Group 19"/>
          <p:cNvGrpSpPr/>
          <p:nvPr/>
        </p:nvGrpSpPr>
        <p:grpSpPr>
          <a:xfrm>
            <a:off x="2971800" y="4571640"/>
            <a:ext cx="1177920" cy="803160"/>
            <a:chOff x="2971800" y="4571640"/>
            <a:chExt cx="1177920" cy="803160"/>
          </a:xfrm>
        </p:grpSpPr>
        <p:sp>
          <p:nvSpPr>
            <p:cNvPr id="171" name="AutoShape 20"/>
            <p:cNvSpPr/>
            <p:nvPr/>
          </p:nvSpPr>
          <p:spPr>
            <a:xfrm flipH="1" flipV="1" rot="5400000">
              <a:off x="3159000" y="4383720"/>
              <a:ext cx="803160" cy="1177920"/>
            </a:xfrm>
            <a:prstGeom prst="rtTriangl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 flipV="1" rot="5400000">
              <a:off x="4016520" y="5241960"/>
              <a:ext cx="134640" cy="130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2"/>
          <p:cNvSpPr/>
          <p:nvPr/>
        </p:nvSpPr>
        <p:spPr>
          <a:xfrm>
            <a:off x="33537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365760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277440" y="502920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4321080" y="4759200"/>
                <a:ext cx="385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6"/>
              <p:cNvSpPr txBox="1"/>
              <p:nvPr/>
            </p:nvSpPr>
            <p:spPr>
              <a:xfrm>
                <a:off x="3276720" y="5410080"/>
                <a:ext cx="6094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ming Sides of Right Trian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657600" y="2514600"/>
            <a:ext cx="2819520" cy="167652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657600" y="3962520"/>
            <a:ext cx="22860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4343400" y="4267080"/>
            <a:ext cx="1483920" cy="764640"/>
            <a:chOff x="4343400" y="4267080"/>
            <a:chExt cx="1483920" cy="764640"/>
          </a:xfrm>
        </p:grpSpPr>
        <p:sp>
          <p:nvSpPr>
            <p:cNvPr id="182" name="Text Box 6"/>
            <p:cNvSpPr/>
            <p:nvPr/>
          </p:nvSpPr>
          <p:spPr>
            <a:xfrm>
              <a:off x="5488200" y="4572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99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7"/>
            <p:cNvSpPr txBox="1"/>
            <p:nvPr/>
          </p:nvSpPr>
          <p:spPr>
            <a:xfrm>
              <a:off x="4343400" y="426708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djacent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84" name="Rectangle 8"/>
          <p:cNvSpPr/>
          <p:nvPr/>
        </p:nvSpPr>
        <p:spPr>
          <a:xfrm>
            <a:off x="5716800" y="37339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4343400" y="2286000"/>
            <a:ext cx="1600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3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otenu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2209680" y="2971800"/>
            <a:ext cx="1218960" cy="1145520"/>
            <a:chOff x="2209680" y="2971800"/>
            <a:chExt cx="1218960" cy="1145520"/>
          </a:xfrm>
        </p:grpSpPr>
        <p:sp>
          <p:nvSpPr>
            <p:cNvPr id="187" name="WordArt 11"/>
            <p:cNvSpPr txBox="1"/>
            <p:nvPr/>
          </p:nvSpPr>
          <p:spPr>
            <a:xfrm>
              <a:off x="2209680" y="2971800"/>
              <a:ext cx="12189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pposite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2668680" y="36576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99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Object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666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 will be learning 3 trig rat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295280" y="213372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e- Abbreviation is Sin (but you pronounce it Sign, not Sin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ine- Abbreviation is 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ngent- Abbreviation is 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5943600" y="2133720"/>
            <a:ext cx="2819520" cy="167616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5486400" y="3809880"/>
            <a:ext cx="2286000" cy="1224000"/>
            <a:chOff x="5486400" y="3809880"/>
            <a:chExt cx="2286000" cy="1224000"/>
          </a:xfrm>
        </p:grpSpPr>
        <p:sp>
          <p:nvSpPr>
            <p:cNvPr id="194" name="Text Box 6"/>
            <p:cNvSpPr/>
            <p:nvPr/>
          </p:nvSpPr>
          <p:spPr>
            <a:xfrm>
              <a:off x="5486400" y="457200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7"/>
            <p:cNvSpPr txBox="1"/>
            <p:nvPr/>
          </p:nvSpPr>
          <p:spPr>
            <a:xfrm>
              <a:off x="6629400" y="3809880"/>
              <a:ext cx="1143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ide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Adjacent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6" name="Rectangle 8"/>
          <p:cNvSpPr/>
          <p:nvPr/>
        </p:nvSpPr>
        <p:spPr>
          <a:xfrm>
            <a:off x="7850520" y="3352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6629400" y="1981080"/>
            <a:ext cx="1600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3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otenu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4648320" y="2590920"/>
            <a:ext cx="1218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pposit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Object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666800" cy="16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990720" y="2057400"/>
                <a:ext cx="2971800" cy="31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otenus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osi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acen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Rectangle 2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Trigonometric Ratios</a:t>
            </a:r>
            <a:br>
              <a:rPr sz="4200"/>
            </a:b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(The SOHCAHTOA mod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A little trick to help you remember…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1143000" y="213372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ld Horse,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ght Another Hors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Oats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8:35:15Z</dcterms:created>
  <dc:creator>bruley.m</dc:creator>
  <dc:description/>
  <dc:language>en-US</dc:language>
  <cp:lastModifiedBy>BeasoA</cp:lastModifiedBy>
  <dcterms:modified xsi:type="dcterms:W3CDTF">2010-12-07T16:54:29Z</dcterms:modified>
  <cp:revision>9</cp:revision>
  <dc:subject/>
  <dc:title>Trigonometric Ratios  in Right Triangles</dc:title>
</cp:coreProperties>
</file>